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12F-34C6-4E80-BA4E-B3E7AE2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D48-FE0C-483B-AB1E-8F7C0FA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23A-FED5-415D-9DA0-64F65EF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98B-54B8-4FB8-B63F-5E6FA6AE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573D-453B-45D2-A2EF-15B66FB3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88EB-BA64-4EE1-83C3-32EBA78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FD5E-70F5-46AC-B036-75E80B25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A8A6-CACF-46FF-9DFA-5BE329A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2F51-9E6F-48FE-AE27-8EA6F31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F39-7EF3-440E-8A08-F04D6C8C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EB2-1637-4B29-909C-16C08CD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A49-9895-477A-81E6-78B7A01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14F-7A61-46FA-84AE-C9C155AA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A1B2-43C1-45A7-B163-991BEEEE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436C-F5FD-46CD-8E4E-40C76268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108-C4D1-465A-8C5B-C6C7A349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AE1-CF0A-4B92-9750-D4FF3AB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205-404E-4615-A0A8-A297768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B01-AEED-4971-B914-35ACB4D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C1E-358C-4220-B8D1-53E3E51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A01-7325-4D3A-91E5-8C0495B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930-1D72-45D2-9016-D3A1B9E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113-ADB7-445C-A6E7-1D5F36B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CE7-3CD1-45A0-8C49-0F871FD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91C-EF5F-4250-8B19-DDF43573858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28D-219E-48A8-9470-5B93ACF1C5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SM/RtI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6-8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om 3 Tiers To 4 Ti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iated 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al Education Pl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s Universal Screening Data indicating Student is between Well Below Proficient and Profici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ly standard protoc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ly lower intensity, e.g.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r Grou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rgeted more to skills at the middle to the hierarc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d by staff other than Special Education tea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3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Assessment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sis of  the Assessment Pl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gress Moni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vision of Hypothesis/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sis of the 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quest Formal Evalu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4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Entitlement Report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is written by the school psychologist to summarize all the data from Universal Screening and Differentiated Instruction through Levels 1 and 2 and address Entitlement Criteri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The case is presented to the PSM Review Tea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to determine if all the criteria have been met and discuss issues of process integrit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If there is agreement between the school and the PSM Review Tea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, parents/guardians are invited to an IEP meeting to determine entitlement and write the IEP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31:58Z</dcterms:created>
  <dc:creator>Nancy Kreykenbohm</dc:creator>
  <dc:description/>
  <dc:language>en-US</dc:language>
  <cp:lastModifiedBy>Nancy Kreykenbohm</cp:lastModifiedBy>
  <dcterms:modified xsi:type="dcterms:W3CDTF">2010-09-13T15:47:00Z</dcterms:modified>
  <cp:revision>2</cp:revision>
  <dc:subject/>
  <dc:title>PSM/RtI 6-8</dc:title>
</cp:coreProperties>
</file>